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5B2-F674-4357-B1F0-9E20F374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E79-714C-4FB5-93D4-E93EF600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596-52F6-4AA8-94ED-5CDC7BF8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5A5-023D-461C-AF0D-C0EB234D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236-FFEC-4FF4-AEE1-742FA21A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CBE-BF10-417B-9DCC-78378D5F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46B-7062-46C2-937E-31F30910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D45-E869-4E14-94AC-8DEDCE57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559-0B76-453F-A46C-AA6EDFDE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BA1-CCFB-4D07-96ED-5EFFE08A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794-90CE-4EE1-AF8A-9F84F2AC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205-36FA-492C-9F2A-4F9CB74A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FE07-3697-41CF-92A6-01BDEF7F4BB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Impacts Of Touris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Advantages And 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ositive Vs Neg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ur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s both positive and negative impacts for an are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both the United Kingdom and in countries in the developing world tourism has been the catalyst for economic grow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LEDC's rely on tourism as their principle industry so much that when a problem occurs they have to work very quickly to rectify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ositive Vs Neg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stance when a hurricane hit Fiji in 1998, the tourist industry, their main source of income, was badly h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thing that money was used to repair was all the hotels and their tourist facilities so that business did not lose out too mu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locals even produced T-shirts the next day saying how they had survived the hurric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dvantages Of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urism brings much needed investment into an are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it is an LEDC, the foreign currency is very important to the local peo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urism provides employment for many local people, ranging from working in the hotels to selling trinkets on the beac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out the tourist industry some less developed countries would have a much greater unemployment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dvantages Of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ney that tourism brings in can be used to improve the infrastructure of the are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roads, airports and facilities can be built, which cater for the increasing number of tourists, but also benefit the local resi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e from tourism may be used to help conserve the natural environment that is the reason why visitors come in the first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dvantages Of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ountry can benefit from overseas investment, primarily in the tourist industry, but also in other related industr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ourism may help to preserve local cultures and communities, as they become a tourist attrac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is certainly the case with some Masai tribes in Kenya and Maori's in New Zealand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Both use the visitor's interest and curiosity in their culture to become a tourist attracti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isadvantages Of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ny resorts in LEDC's very little of the money paid for the holiday actually reaches the coun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liday company, travel agents, airlines and hotel companies swallow most of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obs for the locals are often badly paid, with very poor working condi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isadvantages Of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huge number of tourists coming to see it could easily damage the environment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t is very easy for a country to see the short-term economic gains of mass tourism without really taking heed of the long-term environmental damage going o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creasing numbers of tourists brings problems such as littering, pollution and footpath erosion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ll of these take time and money to clear up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isadvantages Of Tou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seas investment, in things like luxury hotels, can mean that the money goes back to the country of orig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hotels may also take trade away from local guesthouses and hot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cultures could be devalued by tourism. They may almost become a freak show, where the visitors begin to look down on the locals as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1:12:56Z</dcterms:created>
  <dc:creator>Dell_02</dc:creator>
  <dc:description/>
  <dc:language>en-US</dc:language>
  <cp:lastModifiedBy>Dell_02</cp:lastModifiedBy>
  <dcterms:modified xsi:type="dcterms:W3CDTF">2011-01-27T01:18:32Z</dcterms:modified>
  <cp:revision>1</cp:revision>
  <dc:subject/>
  <dc:title>Impacts Of Tourism</dc:title>
</cp:coreProperties>
</file>